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marL="58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marL="58320" indent="-5832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marL="58320" indent="-58320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marL="58320" indent="-5832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marL="58320" indent="-58320" algn="ctr">
              <a:buClr>
                <a:srgbClr val="ffffff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marL="58320" indent="-5832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marL="58320" indent="-5832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2000"/>
          </a:bodyPr>
          <a:p>
            <a:pPr marL="246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246960" indent="-24696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246960" indent="-246960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46960" indent="-24696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635040" y="1980720"/>
            <a:ext cx="586728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11861640" y="216000"/>
            <a:ext cx="1041480" cy="93218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7772040" y="2286000"/>
            <a:ext cx="39625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5227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161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095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4029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9596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826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272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718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61612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1"/>
          <p:cNvGrpSpPr/>
          <p:nvPr/>
        </p:nvGrpSpPr>
        <p:grpSpPr>
          <a:xfrm>
            <a:off x="10261440" y="241200"/>
            <a:ext cx="2514600" cy="9283680"/>
            <a:chOff x="10261440" y="241200"/>
            <a:chExt cx="2514600" cy="9283680"/>
          </a:xfrm>
        </p:grpSpPr>
        <p:sp>
          <p:nvSpPr>
            <p:cNvPr id="187" name="Rectangle 2"/>
            <p:cNvSpPr/>
            <p:nvPr/>
          </p:nvSpPr>
          <p:spPr>
            <a:xfrm>
              <a:off x="10261440" y="2730240"/>
              <a:ext cx="2514600" cy="679464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43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88" name="Rectangle 3"/>
            <p:cNvSpPr/>
            <p:nvPr/>
          </p:nvSpPr>
          <p:spPr>
            <a:xfrm>
              <a:off x="10261440" y="241200"/>
              <a:ext cx="251460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2366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6812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1258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57004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5640" y="-216360"/>
            <a:ext cx="12560040" cy="561348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00"/>
                </a:solidFill>
                <a:latin typeface="Engravers MT"/>
                <a:ea typeface="Engravers MT"/>
              </a:rPr>
              <a:t>fang</a:t>
            </a:r>
            <a:endParaRPr b="0" lang="en-US" sz="1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15640" y="5397480"/>
            <a:ext cx="12560040" cy="485136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Engravers MT"/>
                <a:ea typeface="Engravers MT"/>
              </a:rPr>
              <a:t>By:</a:t>
            </a:r>
            <a:r>
              <a:rPr b="0" lang="en-US" sz="4200" spc="-1" strike="noStrike">
                <a:solidFill>
                  <a:srgbClr val="000000"/>
                </a:solidFill>
                <a:latin typeface="Futur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Engravers MT"/>
                <a:ea typeface="Engravers MT"/>
              </a:rPr>
              <a:t>Baxter</a:t>
            </a: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Engravers MT"/>
                <a:ea typeface="Engravers MT"/>
              </a:rPr>
              <a:t>Banwell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80ff00"/>
                </a:solidFill>
                <a:latin typeface="Futura"/>
              </a:rPr>
              <a:t>Food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-12960" y="2247840"/>
            <a:ext cx="9855000" cy="742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main food they eat is different kinds of rice dishes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bird kids help the African people farm and get food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little kids also help the adults and as a reward the bird kids give them candy, like suckers and mints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Young kids and elderly people eat mushed rice with water and salt, heated to make a soup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rcRect l="19903" t="20046" r="20190" b="20187"/>
          <a:stretch/>
        </p:blipFill>
        <p:spPr>
          <a:xfrm>
            <a:off x="9655200" y="3067200"/>
            <a:ext cx="3137040" cy="2346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"/>
          <p:cNvPicPr/>
          <p:nvPr/>
        </p:nvPicPr>
        <p:blipFill>
          <a:blip r:embed="rId2"/>
          <a:stretch/>
        </p:blipFill>
        <p:spPr>
          <a:xfrm>
            <a:off x="9680400" y="6153120"/>
            <a:ext cx="328644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5640" y="419040"/>
            <a:ext cx="12560040" cy="190512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80ff00"/>
                </a:solidFill>
                <a:latin typeface="Futura"/>
              </a:rPr>
              <a:t>Terrain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-165600" y="270504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It’s very sandy and hot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They have lots of big, rugged mountains surrounding them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It’s very, very hard to farm because the soil is bad, they don’t get much rain, and it’s very hot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There aren't very many trees and bushes so it’s hard to find shade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7962840" y="1895400"/>
            <a:ext cx="4711680" cy="3637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8755200" y="6921360"/>
            <a:ext cx="4141800" cy="27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ff00"/>
                </a:solidFill>
                <a:latin typeface="Futura"/>
              </a:rPr>
              <a:t>Housing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-444960" y="257796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Most of the people who live in Africa live in tents made out of animal skin and other materials like cloth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Some of the people who can find mud and stone make houses out of that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Some of the people can also afford wood and other supplies to make houses with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9817200" y="5789520"/>
            <a:ext cx="3073320" cy="36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ff00"/>
                </a:solidFill>
                <a:latin typeface="Futura"/>
              </a:rPr>
              <a:t>Clothing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-152640" y="242568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Most people wear light, thin, raggedy clothes during the day to stay cool, and thick, heavy clothes at night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Most of the clothes they wear are made of cloth or animal skins. 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Women normally made the clothes while the men went to look for food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10293480" y="4416480"/>
            <a:ext cx="317484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ff00"/>
                </a:solidFill>
                <a:latin typeface="Futura"/>
              </a:rPr>
              <a:t>Climate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-38520" y="25272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During the the day the temperature is very, very hot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At night the temperature drops down and becomes cool. 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When it’s hottest you don’t want to be outside because it’s so hot, you want to try and find shade or go in a tent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9524880" y="6094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"/>
          <p:cNvPicPr/>
          <p:nvPr/>
        </p:nvPicPr>
        <p:blipFill>
          <a:blip r:embed="rId2"/>
          <a:stretch/>
        </p:blipFill>
        <p:spPr>
          <a:xfrm>
            <a:off x="10053720" y="429264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ff00"/>
                </a:solidFill>
                <a:latin typeface="Futura"/>
              </a:rPr>
              <a:t>People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480" y="2552400"/>
            <a:ext cx="10464480" cy="6654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Most of the people that live in the village that the bird kids visit speak English so it’s easy for them to communicate, although some speak other languages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Most of the people in the village are African, but a few of them are white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y trade animal furs and food with other villages that are close</a:t>
            </a:r>
            <a:r>
              <a:rPr b="0" lang="en-US" sz="4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o them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12960" y="-25920"/>
            <a:ext cx="13017240" cy="1050300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Futura"/>
              </a:rPr>
              <a:t>THE END!</a:t>
            </a:r>
            <a:endParaRPr b="0" lang="en-US" sz="9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2"/>
          <a:stretch/>
        </p:blipFill>
        <p:spPr>
          <a:xfrm>
            <a:off x="7264440" y="419040"/>
            <a:ext cx="5334120" cy="3936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3"/>
          <a:stretch/>
        </p:blipFill>
        <p:spPr>
          <a:xfrm>
            <a:off x="8794800" y="5892840"/>
            <a:ext cx="3898800" cy="371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SEAQUIS</cp:lastModifiedBy>
  <dcterms:modified xsi:type="dcterms:W3CDTF">2010-11-02T14:35:01Z</dcterms:modified>
  <cp:revision>1</cp:revision>
  <dc:subject/>
  <dc:title>fang</dc:title>
</cp:coreProperties>
</file>